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84702"/>
        <c:axId val="72858536"/>
      </c:barChart>
      <c:catAx>
        <c:axId val="62384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58536"/>
        <c:crosses val="autoZero"/>
        <c:auto val="1"/>
        <c:lblAlgn val="ctr"/>
        <c:lblOffset val="100"/>
        <c:noMultiLvlLbl val="0"/>
      </c:catAx>
      <c:valAx>
        <c:axId val="72858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84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CE8-7DCE-4623-B8B2-B53307E7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4B9-498C-4ED0-9928-129BB6F0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99B-B876-4715-9242-964D9CD3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0E7-5E7F-4E47-A632-9A65D12D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4B9-6099-4965-BC91-0EBB5E3F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4035-72AA-4707-AB99-2672024C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1C1-C677-430C-9A5D-EF617F29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A84-E9E7-4770-B2D5-5D77E2AA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4A0-6FC2-4040-AA69-C028BED5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F323-92E2-4BDE-9A69-1A83778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3D7-082A-432D-9AA1-88ACA2EF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0D9-4415-45AD-AAFD-F28962B5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DF65B-EEE5-4A5C-B8B7-6D64EF54C7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