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E102-0049-4413-A298-B61CC145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5D6C-7034-437E-81FF-55835664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BA73-9690-4F13-82F1-9E7E3A28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396A-4950-48B3-97F7-436FEF74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8B84-14DA-406D-9893-AC5F3F98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14A0-4DF0-4F9A-8C26-0689D018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14A5-6D80-4345-9D1C-EC285995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6B7E-68AF-416A-BFD2-2E8CEA72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2CC1-08E8-4E19-8584-EA9F7811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0F07-70BD-439B-BD56-6F9AB53A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5A20-886C-44B7-A918-C5BE1B87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03E3-6371-48FB-9A00-D5A12FF6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28BBF8E-8077-4C8A-A4E4-AC4F6965439C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1640" y="43783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faq.html#wcache" TargetMode="External"/><Relationship Id="rId2" Type="http://schemas.openxmlformats.org/officeDocument/2006/relationships/hyperlink" Target="http://oss.sgi.com/projects/xfs/faq.html#wcach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5 - Mou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User/Group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F3FC-6823-4F16-B5D4-4EA8E8B513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Project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9FD0-FFB5-403C-8472-9872295BFC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inf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F983-908B-46CD-A3CA-3C4F218AFC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BC39-BDA4-4F78-B9A1-47256F08417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un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 some XFS-specific mount options and how they affect the behaviour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1F8E-A01E-48D7-A361-50921EF6BB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nux tre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ation/filesystems/xfs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/fs/xfs_vfsops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options are specific to XF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common Linux mount options does XFS not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3FA2-3BB6-41E9-92AF-974727D667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Log &amp; Realtime Devi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D433-2D03-4040-A786-05D257C725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default XFS uses 32bit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’s number roughly equates to its location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bination of allocation group, cluster and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on Linux is 32bit on 32bi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y change in future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place 32bit inodes in the first tera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ing a larger inode size means less inodes per cluster allowing 32bit inodes to be located beyond the first tera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inode64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ption on 64bit machines allows inodes to span the entir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try to put file extents in same allocation group as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all backup tools support 64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ode number used to identify file between back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0E75-6E5A-47A5-BE86-BE24418C46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Allocator Hi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B140-AE64-4EC2-986C-9EBF9596D0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Stri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D61E-465B-4410-81D6-205E535721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C284-F9C4-495B-A4F3-E48E212284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Barri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cache on disk can result in filesystem corruption since XFS is told the log transaction has reached the disk when in fact it is still in the disk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journal log assumes that the log transaction is updated on disk before the metadata is updated, but this may not be true with write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able to issue write barriers if the device suppor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sures that the log entry is written before any oth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barriers are enabled by default in SLE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will attempt to determine is barriers are supported and will issue a warning if they are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nobarri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option disables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projects/xfs/faq.html#w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D1BB-3359-48BE-89DD-3D74368118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7:00Z</dcterms:modified>
  <cp:revision>333</cp:revision>
  <dc:subject/>
  <dc:title>Possible CXFS Administration and Monitoring Interfaces</dc:title>
</cp:coreProperties>
</file>