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A70A-D8CC-4DED-9443-77263812E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elbourne.sgi.com/dmf_and_friends/internals/DMAP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0DA0F-11CC-4666-AB6E-6D3A174F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EBD3-0915-40E2-9E96-25DB732A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66E39-7360-48EF-8842-65940235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6EB6A-D045-476D-9B6D-82F60716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83ED-7F54-4ED3-BDD3-19DA76B3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D4D26-3B4B-4526-B3CC-B4F92AFC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C5423-A1C3-4933-B82E-D1FF8027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C7011-C7B5-4167-886A-65513924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CF4F-CB2E-49A5-A500-8CCD6DA1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7AE41-159E-4E2E-8E18-35BF470F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83BCE-6ECB-4776-9B87-EE4D9675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08A6A-9029-42AC-A77B-05951809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6131B3B6-1B8F-4BC5-9355-F714BC000BC1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pengroup.org/pubs/catalog/c429.htm" TargetMode="External"/><Relationship Id="rId2" Type="http://schemas.openxmlformats.org/officeDocument/2006/relationships/hyperlink" Target="http://www.csu.edu.au/special/auugwww96/proceedings/alex/alex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2 - DMA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Filesystem Admi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is about to be moun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is about to unmou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unmount succeeded/fail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has run out of sp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ode has been read from dis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FEFB0-A249-4A23-9457-0060A24570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Namespac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/post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file or direct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/postre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ink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/postr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ame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/post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rd) link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link/postsym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sym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2C37D-8E5E-439E-89E0-EA745C66A9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ecified file byte range is about to be re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ecified file byte range is about to be writ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is about to be truncated to the specified address (away from or towards zer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929FE-FEED-4402-BA80-6067075C94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Meta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object's attribute has chang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object has been destroy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reviously issued event is cancell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ilesystem object has been clo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32DC3-62B2-4B9A-B180-5D29E2632F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vents - Pseudo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ev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ssage between cooperating DMAPI proces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AF8EF-41A1-4E0C-AF3A-999BE1C23F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ssions and Disposi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uses sessions as the primary communication channels between DM application and the kernel component of 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ost all DMAPI calls require a session argu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s and event lists allow DM application to exercise a fine contr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event delivery and gen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 may direct different event types to different sessions and avoid session over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itions indicate which event types should be delivered to this ses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M application creates a session by calling dm_open_session() and then may register event dispositions for this session by calling dm_set_disp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DA748-4231-444A-8089-664E1BD355C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necting Events with Sess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esired events to be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eventlist_t 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y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per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y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trigger mount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t disposition of those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ipient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C148-C7EC-461D-B09D-9D802BC0C34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necting Event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ev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list of enabled events for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ev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list of enabled events for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di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disposition of events on a filesystem to a particular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return_on_dest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y a DMAPI attribute to return with destroy ev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F293E-62FF-4C29-A9B1-1921A26ACAE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Managing Sessions - DMAPI functions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new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 a session for 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destro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roy the specified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all extant 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32DB2-C0E4-4BEE-BDD3-55CF4BA7561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Processing Event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next available event mess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spond-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d to one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fy FS of slow application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user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a user pseudo-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nd_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 message to indicated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move_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 event to another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F29A0-7831-4CF7-92F1-3F34236B65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DMAPI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gem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lica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ramm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Data Management Interfaces Group consortium (DMIG), 1993-199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tandardized access to filesystems for Hierarchical Storage Managers (HSMs) and backup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in SLES is used by vendors other than just S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998E-9C70-4D0F-ADEA-803AD6AC07C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ssion Recove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all extant 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 a session for inf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/assume a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outstanding tokens for a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find_event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message for an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di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event dispositions for all filesystems for a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45E9-87DD-4B17-849C-FBF75D04A0F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anaged Reg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naged regions is the mechanism for an application to control file data access at a granularity level less than file size. It is an extent in the logical fil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 generation fla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yte-granularity events for all accesses/modifications of a file's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apply to file obj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non-overlapping byte ranges in a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ly detect reads, writes, trunc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e, persistent in X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EC05B-A3C0-4F53-A82C-923D1DE9CCD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anaged Regions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managed regions for a 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managed regions for a 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7F79A-166B-4513-B586-223979D63C6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ccess and Modifi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change mtime or atime (ctime chang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: B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generate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84F0-7B6B-4E57-80A6-5D0ED9BAEA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ccess and Modification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robe_h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rounded result of the area where a hole is to be punch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unch_h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 hole in a f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read_in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a file bypassing DMAPI ev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write_in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a file bypassing ev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sync_by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c a file's data to dis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fileat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file attribu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set_fileat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file time stamps, ownership, mode, length, et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alloc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allocation info for a f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2C5C-1F08-4A72-8FA4-1760BB4CF4B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ersistent DMAPI 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d per file as SGI_DMI_xxx extended attrib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t across rebo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F stores in SGI_DMI_DMF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fid, file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s should be 512 bytes (-i size=5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5E47C-3859-4D23-8C60-ACFD2206014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ersistent DMAPI Data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/replac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move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e all DMAPI attributes for 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A6EE0-5476-4ABE-9E93-8F92967E051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canning Filesystems Quickl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init_attr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a bulk attribute location off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bulk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bulk attributes for entire file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bulk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data management attributes for entire file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3AA7-A38C-4C94-B85D-1E288DC7DB0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igh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 applications use the tokens to obtain access rights to file system objects to guarantee stability of th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session to control access/upd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or atomic updates over many fun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rights may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d right allows read-only access (DM_RIGHT_SHA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lusive right allows modification to the object (DM_RIGHT_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eudo-available in X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30D06-38D8-49F7-8E39-AC29698942A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ights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leas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 all access rights to an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set of access rights to an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upgrad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grade current right to exclus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downgrad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grade current right to sh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in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request_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 a specific access righ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1EC23-C37C-4670-A0D1-C3FE8897063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SM Examp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5176800"/>
            <a:ext cx="259740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218000">
            <a:off x="1668240" y="3478320"/>
            <a:ext cx="5265720" cy="1681200"/>
          </a:xfrm>
          <a:prstGeom prst="leftRightArrow">
            <a:avLst>
              <a:gd name="adj1" fmla="val 50000"/>
              <a:gd name="adj2" fmla="val 62352"/>
            </a:avLst>
          </a:prstGeom>
          <a:solidFill>
            <a:srgbClr val="c0b9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63480" y="2435400"/>
            <a:ext cx="839880" cy="1841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3581280" y="3317760"/>
            <a:ext cx="762120" cy="1814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8600" y="1219320"/>
            <a:ext cx="2816640" cy="11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Primary Storage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Online high-performance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2 to 10 hours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current project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4832280"/>
            <a:ext cx="1954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De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e.g. &gt; 30 day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5181480"/>
            <a:ext cx="17524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De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e.g. &gt; 12 month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4351320"/>
            <a:ext cx="236376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632960" y="2805120"/>
            <a:ext cx="236196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48040" y="3021120"/>
            <a:ext cx="1179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Pro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on demand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3720" y="3546360"/>
            <a:ext cx="1179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Pro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on demand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84920" y="1371600"/>
            <a:ext cx="2457000" cy="14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Nearline Disk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High Capacity, Low cost, 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Lower performance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6 to 20 hours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this years project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00200" y="2895480"/>
            <a:ext cx="1993680" cy="11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Tape Library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Archive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hundreds to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thousands of hour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 rot="5400000">
            <a:off x="7515000" y="4641840"/>
            <a:ext cx="881280" cy="51912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934320" y="4003560"/>
            <a:ext cx="839520" cy="181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38360" y="2971800"/>
            <a:ext cx="5295960" cy="990720"/>
          </a:xfrm>
          <a:custGeom>
            <a:avLst/>
            <a:gdLst/>
            <a:ahLst/>
            <a:rect l="l" t="t" r="r" b="b"/>
            <a:pathLst>
              <a:path w="3240" h="576">
                <a:moveTo>
                  <a:pt x="3240" y="576"/>
                </a:moveTo>
                <a:lnTo>
                  <a:pt x="1880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015D-3FEE-425D-B2F1-8B9DE9EC3D8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MAPI Mount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ptions must be us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nable the DMAPI event callo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dsm and dmi options are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tpt=mount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mountpoint specified here will be included in the DMAPI mount event, and should be the path of the actual mountpoint that is 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grep dmapi /etc/fs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dev/sdb1 /mnt/scratch1 xfs dmapi,mtpt=/mnt/scratch1,defaults 0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dev/sdb1 on /mnt/scratch1 type xfs (rw,dmapi,mtpt=/mnt/scratch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7DF54-6F52-4B42-B73F-02B931EBC3C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at if there is no DMAPI module?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mount -o logdev=/dev/sdb,dmapi,mtpt=/mnt/data /dev/sdd /mnt/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unt: wrong fs type, bad option, bad superblock on /dev/sd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sing codepage or other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 some cases useful info is found in syslog - 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mesg | tail  or 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dmesg | tail | grep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: unknown mount option [dmapi]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heck that DMAPI is probed on boot and 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LES10 set DMAPI_PROBE to yes in /etc/sysconfig/sysc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ithout rebooting XFS with load dmapi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# echo 1 &gt; /proc/sys/fs/xfs/probe_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# lsmod | grep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mapi              22936 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mapi                  39728  1 xfs_dmapi,[permanen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                   479796  4 xfs_dmapi,xfs_qu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75257-E0D3-44DE-9F3E-76C55C6866C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Imple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DMAPI interfaces used by SGI’s HSM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ny of the bugs recently fixed in DMAPI did not impact SGI’s H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me DMAPI interfaces are not implemented by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intaining 2.4/2.6 compatible code makes it difficul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lan is to remove 2.4 support from this code 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requires two kernel changes that are not in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pro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pen_ex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983F5-7581-4394-8072-AE099281E70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Librari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rpm -qpl dmapi-2.2.3-12.2.ia64.r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.0.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CHANGES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COP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READ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D7C7-66B9-4488-B835-2FA61B1532A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Development Pack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rpm -qpl dmapi-devel-2.2.3-12.2.ia64.r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include/xfs/dmapi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man/man3/dmapi.3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63FF3-2EE2-4F13-B85F-D07F9BD6EEF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Kernel Modu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rpm -qpl kernel-default-2.6.16.21-0.8.ia64.rpm | grep 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dmapi/dmapi.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ilesystem independent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xfs/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xfs/dmapi/xfs_dmapi.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dependent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50F16-933D-4236-81B4-AE98397672B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Tri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17FF6-D89E-48B5-A29B-B845436C3B5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AE3B8-191E-4979-95E0-F72D2D2965D4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SM Economic Benefi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4200" y="5452920"/>
            <a:ext cx="5459400" cy="366840"/>
          </a:xfrm>
          <a:prstGeom prst="rect">
            <a:avLst/>
          </a:prstGeom>
          <a:solidFill>
            <a:srgbClr val="36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9920" y="4790520"/>
            <a:ext cx="124776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Tape Library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30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2369520"/>
            <a:ext cx="13795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2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966080" y="3421080"/>
            <a:ext cx="444600" cy="1057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927840" y="3487680"/>
            <a:ext cx="10382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Low Cost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6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0200" y="3852720"/>
            <a:ext cx="6122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System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c/MB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/o DMF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 DMF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4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900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8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Low Cost Dis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0.8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5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Tape Library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0.37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110K</a:t>
            </a:r>
            <a:br>
              <a:rPr sz="1800"/>
            </a:b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DMF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11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otal Investment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$900K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$35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4640"/>
            <a:ext cx="46418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Example Environment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2TB data less than 30 days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6TB data between 30 days and one year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30TB data over one year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70400" y="2369520"/>
            <a:ext cx="13795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30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56200" y="1464120"/>
            <a:ext cx="17510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out HSM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3800" y="1464120"/>
            <a:ext cx="15242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 HSM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676840" y="1914480"/>
            <a:ext cx="554040" cy="1200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904160" y="1936800"/>
            <a:ext cx="554040" cy="1200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8001000" y="4664160"/>
            <a:ext cx="452520" cy="97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9E011-FA79-4D27-B529-415EDEDF02D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at do HSMs need?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of accesses/changes to a file's meta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accept or reject such accesses and 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ave user processes block until the change has been appro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access a file without knowing a path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of changes to a file's meta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read and change the contents of a file without bloc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ave HSM-specific information persistently with a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can all files in a filesystem quick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when filesystems become fu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39CA-6A1C-46C7-A5BB-8CB5759BF7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Standard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Versions 2.1 and 2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/Open Data Storage Management API (XDSM) - 2/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rigorous standa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70 function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40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 ev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 available free in HTML format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opengroup.org/pubs/catalog/c429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 Miroshnichenko’s paper from AUUG 1996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csu.edu.au/special/auugwww96/proceedings/alex/al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4BFAF-7CC1-4BCA-8BB8-E5D0427CA9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and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file access without pathn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milar to NFS file hand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andle is an opaque persistent identifier which is unique per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not change for the life of th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s are represented as variable length byte 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* and size_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istence of a valid handle does not guarantee existence of the object referenced b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nly way to guarantee the existence of the object referred to by a handle is to either obtain a right or hold on the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handle typ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handle - (used only in mount request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handle - (fsid has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handle - (fsid hash/fid_t structur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6B347-9E47-4E6A-B53E-EF810B3FF4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andle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ath_to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 handle from path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fd_to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 handle from file descrip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ath_to_fs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system handle from file descrip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to_fs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 the filesystem handle from a file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c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 handle comparis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is_val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if a handle is val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h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h contents of a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storage allocated to a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to_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a pathname from two hand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7F33-631C-4FEC-9459-F4A5C49E4A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Events and Toke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 are messages from the kernel to a DMAPI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notification of accesses/changes to a file or file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synchronous event is generated, the user process is suspended in the kernel until a DMAPI application issues an explicit response to th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oken is a reference to the kernel state associated with a synchronous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events are for notification purpos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indicate a completion (or failure) of certain oper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 not block user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ntain handles, directory nam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A312A-2004-4C37-9DC9-2ED3AC74C1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6:58Z</dcterms:modified>
  <cp:revision>335</cp:revision>
  <dc:subject/>
  <dc:title>Possible CXFS Administration and Monitoring Interfaces</dc:title>
</cp:coreProperties>
</file>