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097AA-C2DD-4DD8-955D-49419EB8A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2F8DA-72F0-4D1B-805F-CD149789D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A9A9D-2AFA-4D51-968E-F19CB980A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71ED9-81D5-41CD-B741-C61D4243E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D28A5-05E8-4F10-A2FA-B37E7FF89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496AA-D0DC-4BA4-A9DC-8BC9D3251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CF9C5-EDDF-4B03-ACE8-A9B7B3BA9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B6E96-888D-400B-ACEE-A4D0CB1F3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9A0BC-32FA-46D5-813E-4B8A9C9AD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170D8-A9B1-4F5D-9F4C-960DB6880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12CD0-2602-48FB-AA49-021D556B3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1D885-A33F-48C9-A943-D7EBA065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12000"/>
            <a:ext cx="9144000" cy="0"/>
          </a:xfrm>
          <a:prstGeom prst="line">
            <a:avLst/>
          </a:prstGeom>
          <a:ln w="57240">
            <a:solidFill>
              <a:srgbClr val="44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13760" y="6264360"/>
            <a:ext cx="539640" cy="44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390400" y="6237360"/>
            <a:ext cx="11905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673440" y="6237360"/>
            <a:ext cx="1905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Page </a:t>
            </a:r>
            <a:fld id="{01AB8051-ABF8-4B89-A173-712B095EEEF4}" type="slidenum">
              <a:rPr b="0" lang="en-US" sz="1000" spc="-1" strike="noStrike">
                <a:solidFill>
                  <a:srgbClr val="36363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25520" y="6199200"/>
            <a:ext cx="2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537000" y="6199200"/>
            <a:ext cx="1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323640" y="6237360"/>
            <a:ext cx="19270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13223" t="9376" r="18457" b="9336"/>
          <a:stretch/>
        </p:blipFill>
        <p:spPr>
          <a:xfrm>
            <a:off x="812880" y="1346040"/>
            <a:ext cx="3819600" cy="3872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991200" y="0"/>
            <a:ext cx="2148120" cy="6858000"/>
          </a:xfrm>
          <a:prstGeom prst="rect">
            <a:avLst/>
          </a:prstGeom>
          <a:solidFill>
            <a:srgbClr val="44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86560" y="5400720"/>
            <a:ext cx="1214640" cy="98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34800" y="423720"/>
            <a:ext cx="3962520" cy="220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47800" y="2066760"/>
            <a:ext cx="40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Arial"/>
              </a:rPr>
              <a:t>Silicon Graphics, Inc.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97000" y="2695320"/>
            <a:ext cx="551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825800" y="569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39480" y="6092640"/>
            <a:ext cx="192708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lvl="1" marL="40176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24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2695320"/>
            <a:ext cx="602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XFS Overview &amp; Internals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16 - Volume Manag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50560" y="4743000"/>
            <a:ext cx="55753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XFS Slides 16 - Volume Manag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 and Volume Manager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Using XFS with md, device mapper, software ra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6 - Volume Manag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FC4B4-5CEA-4C4E-B03F-0031B97D1DE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813200" cy="384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6 - Volume Manager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6B351-AA41-4851-8AA0-92A0F963E54C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0:54:15Z</dcterms:created>
  <dc:creator>David Chatterton</dc:creator>
  <dc:description/>
  <dc:language>en-US</dc:language>
  <cp:lastModifiedBy>chatz</cp:lastModifiedBy>
  <dcterms:modified xsi:type="dcterms:W3CDTF">2006-10-30T21:57:40Z</dcterms:modified>
  <cp:revision>331</cp:revision>
  <dc:subject/>
  <dc:title>Possible CXFS Administration and Monitoring Interfaces</dc:title>
</cp:coreProperties>
</file>