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D125E-DB9A-4568-AF9E-2F6B0094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EC5D5-1926-494C-B367-2204F19C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7163F-0671-45AD-920A-757EF6A9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A765-31EC-4C87-9F34-BBD0EC70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1E4E9-8478-4A28-819B-06F2A435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F7F07-1869-4D7D-ABC4-8EEE19F1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ADA9A-1956-4697-8541-CADA1DC4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79652-1768-4AD7-A192-5F960209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8ECD-1EF8-443D-A037-706AAFEE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5B5CE-5D1D-4B2B-A7C5-21E497AA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6AAE-7769-4779-9F68-BB45BBB4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5813-8A64-420B-996D-2CE103CB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30A1765A-35EC-4F32-9910-5C4CB674DE18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3 - Monito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AIL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ush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the AIL is moved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succes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su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ushbuf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inode locked – pushbuf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inn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pi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lock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flushin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ail was flu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restar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log write re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flus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a log was for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6217-B821-4C77-85F1-D6C3BA09A5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Quota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isk quota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laims_mi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isk quota reclaim m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quot_d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upl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mi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isk quota misses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h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isk quota in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qwant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ke_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shaked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ct_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inactive data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7711-79B0-4BC5-90C5-B4F317FA59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sta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misc/xfsstats.pl -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0A98-BF40-4B54-9850-494591C602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E8B57-00ED-46C6-81A4-752E5039BC1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Monitor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Dave Wright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DC09-EA0A-45B7-9C02-8561A90EEF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tch grep inode /proc/slab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ar –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ODO: Need to inst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abtop -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nitor the sl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6FC28-4449-47AF-B083-805FDCADDF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Inode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attemp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looks for inod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fou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inode found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frecycl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fails because inode was 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miss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had to go to disk for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d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times missed but found from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reclaim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recyled the inode’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attrchn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changed inod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lush_cou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inodes are being flu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cluster_flushc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inodes clu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cluster_flushinod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not able to inod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AD4FF-CA64-45CF-B2F3-EF2C9FA6DB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Directory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ok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ile name directory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y cre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y rem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tden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getden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03143-4614-4666-891C-05D9EF07F9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File Attribute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ge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get” operation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se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se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remov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remove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lis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lis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67917-4177-4A8A-AC1B-5B0D4D80AB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Allocation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alloc_exte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alloc_block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block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free_exte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s f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free_block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blocks f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look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allocation btree lookup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eee.compar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compares in alloc btre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insrec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 record inserts in 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delrec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 record deletes in 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38D7-CFAD-4B82-8A85-61F082C44E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Block Map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read_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map 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write_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map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un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dele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add_exli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insertions fo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del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dele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look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cmp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comp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look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btree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comp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comp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insr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in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delr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dele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7F629-AB99-4123-A38A-16C4B69668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Journaling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sy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ransactions waiting to be 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asy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async transaction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emp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that did not do any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wri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og buffer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blo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og blocks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noiclo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entry attempt during memory fl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xfs_log_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force_sle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xs_log_force_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1251-D730-4EC0-8775-E3A1C14454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5:40Z</dcterms:modified>
  <cp:revision>343</cp:revision>
  <dc:subject/>
  <dc:title>Possible CXFS Administration and Monitoring Interfaces</dc:title>
</cp:coreProperties>
</file>