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A808C-8F25-46FF-9023-6F51914F6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1FFBE-EAA5-4D07-8A6F-BB13137C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52CF7-5CB3-430B-8542-843E68595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78691-93BD-4DB6-80A5-256D2BD3D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21F89-63C0-4F37-A3A7-9E0CDC42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6963D-21C3-443B-913E-8B77FC4D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BAC77-31CA-4B2E-A7BA-590E91B1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73609-99CC-4225-AC42-41E23305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0D17A-5E47-4475-B8E0-807134B5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81B6B-B529-4EF5-BC1A-E4CAE162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22CD6-00A7-438A-B393-6BE9DE8A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F3227-E006-465A-8EF8-178ABD3F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26D04458-E8EB-43F8-A5ED-EF5A0C9AF6DD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oss.sgi.com/projects/xfs/users.html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oss.sgi.com/cgi-bin/cvsweb.cgi/linux-2.6-xfs/" TargetMode="External"/><Relationship Id="rId2" Type="http://schemas.openxmlformats.org/officeDocument/2006/relationships/hyperlink" Target="http://oss.sgi.com/cgi-bin/cvsweb.cgi/linux-2.4-xfs/" TargetMode="External"/><Relationship Id="rId3" Type="http://schemas.openxmlformats.org/officeDocument/2006/relationships/hyperlink" Target="ftp://oss.sgi.com/projects/xfs/download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oss.sgi.com/cgi-bin/cvsweb.cgi/xfs-cmds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1 - Backgrou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Who is using XF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oss.sgi.com/projects/xfs/user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List is out of date but it gives an indication of the spread of 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is included in a number of dis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pport agreement with Novell for SLES dis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8670F-3728-470F-945A-E95B795902E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Distributions – linux/fs/xf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p of tree (tot) XFS on oss.sg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hanges appear here shortly after they are checked in intern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VS tree on oss.sgi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oss.sgi.com/cgi-bin/cvsweb.cgi/linux-2.6-xf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oss.sgi.com/cgi-bin/cvsweb.cgi/linux-2.4-xf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ftp://oss.sgi.com/projects/xfs/downl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hanges routinely pushed to 2.6 mainline kernel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t://oss.sgi.com:8090/xfs/xfs-2.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intenance only for 2.4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uSE major releases and service p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s close to top of tree as possible at the time of the code 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ifferences between tot, SuSE and mainline kernels highlighted in course no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F4904-EDD6-47EA-A4A4-EC4FAB47198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Distributions – xfs-cmd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large amount of common code between kernel and user-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is is how xfs_repair understands the on-disk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ser-space commands in a different code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oss.sgi.com/cgi-bin/cvsweb.cgi/xfs-cmd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is includes test framework under xfs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ackage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pr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progs-d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du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26CA0-8886-4405-925F-9CA8C288A6C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Distributions - dmapi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MAPI has not been accepted into ma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Unlikely to be accepted without a complete rewr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tot distribution on oss.sgi.com includes DM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hanges we make to DMAPI will immediately appear in the CVS t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40C52-42BD-4F15-B81C-4445598D955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IRIX vs Linux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support V1 direct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system block size &lt;= PAGE_SIZE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support case insensitive direct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support 64 bit inode numbers on 32 bit platf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ll need XFS changes once generic changes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oes not support filestreams alloc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Development in progress (Oct 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I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support &gt;512 byte sector siz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D RAID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support write b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support “noikeep”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FBD0D-EB46-4A6D-B583-F9AA0E2DB04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Ongoing Developmen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Architecture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bmits and reviews designs for adding new features, or enhancing existing features, targeting one or more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Triage Ro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ngineer rostered for one week to triage incoming bug reports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G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Nov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maining time devoted to developing features and fixing b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5C647-E004-421C-AF30-8F6764D73C0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5CFF0-60A3-40E7-A0BB-56140BD9D68F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urse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Brief History of X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sing X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reating XFS File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ounting XFS File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Architecture &amp;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ile and Directory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n-disk Form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upporting X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epairing XFS File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 Tri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lated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Backup and Re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Volume Mana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1E918-3AF3-422E-9F58-4D83C0C27B6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Course Objectiv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y the end of this course you will be able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reate and mount XFS file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Understand how X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reates and manages meta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llocates extents to files and manages fre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rovides extended attrib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racks filesystem quo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Backup and restore an XFS file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ecover and repair XFS file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terpret on-disk and in-core XFS stru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863A7-4E09-41D7-B8C8-14D7715390B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ay 1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6088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Background and Hi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XFS Bu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XFS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reating File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ounting File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Quo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Extended Attrib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llo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200" y="1461600"/>
            <a:ext cx="416088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ract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XFS Bu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reating and Mounting X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Quo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Extended Attrib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llo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77C5A-E4B5-40AE-8076-F58A522FBC84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ay 2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 Architecture and Intern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act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 On Disk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65EEC-DE16-435F-800E-7A3DBDE1F38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ay 3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ory &amp; Pract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epairing XFS File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 Tri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A2012-B674-4CCA-A852-686E5EECBD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ay 4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ump and Re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 and Volume Mana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act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ump and Re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51365-52EF-4105-B799-26F263B94CD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A Brief History of XF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riginal design was circulated within SGI in October 1993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FS: the extension of E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x" for to-be-determined (but the name stuck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rge filesystems: one terabyte, 2^^40, on 32 bit systems; unlimited on 64 bit syste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rge files: one terabyte, 2^^40, on 32 bit systems; 2^^63 on 64 bit syste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rge number of in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rge director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rge I/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access to in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lanced tree (btree) algorithms for searching large lis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ynchronous metadata transaction logging for quick recov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ayed allocation to improve data contigu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L's --Access Control Lists (see chacl(1), acl(4), acl_get_file(3c), acl_set_file(3c)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irst released in IRIX 5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E52B9-F5E7-43B4-B63D-37EA20D9EDC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on Linux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ort to Linux began in 1999 against 2.3.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ccepted into ma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2.5 kernel (20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2.4 kernel (200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LES9 and bey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 XFS engineering is now based in SGI’s Melbourne, Australia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oordinate changes to Novell via John Hesterberg’s group in Ea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number of contributors in the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ny (but not all) are ex-SGI employ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6DEEE-990F-42E4-96D6-1BA97994D50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19:33:32Z</dcterms:modified>
  <cp:revision>337</cp:revision>
  <dc:subject/>
  <dc:title>Possible CXFS Administration and Monitoring Interfaces</dc:title>
</cp:coreProperties>
</file>