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4F29-91D9-4283-816B-9BA62B84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A9D2-4E1E-4B66-A61A-82CFE961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F672-66B2-4405-BF83-6C6E2398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95D2-68BB-46D0-8508-7B2E05E7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99DD-A7B6-40AF-B1BA-91149DB4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9CF7-393A-4E85-82B6-D885CAA9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DA20-35CD-4062-9BB9-94682088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A200-2757-4C4B-A642-CB0B33AC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73ED-2D4C-4778-9098-19E38BE1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79C7-AD21-4DDB-A1E1-5837938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FBDE-C042-42BB-B0B2-6D77A36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40D9-0113-41D2-A558-E32B2968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78B71EFD-FEAE-4E4F-AF8B-825A8D7DB6AB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2 -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has three inod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ndisk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d for storing the metadata for all files, directories and other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y default 256 bytes but can be up to 2K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ux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nux and XFS inodes have different lifecycles, which can cau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3F0A-B75E-496C-AF58-96486EE5AF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irectory and File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9440" y="1359000"/>
            <a:ext cx="8383680" cy="41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E895-6DEF-4A56-8193-A12A6C06E3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Jou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E5E8-03F9-4985-8F38-FEEF38BD24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EE9B-9FD4-4076-AFDD-A871280E707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gives an overview of the structure of an XFS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detailed examination of the filesystem structure is covered later in th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4083-5EC7-4227-AA6A-F268548EA5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Grou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XFS filesystem is divided evenly into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allocation group can be from 16MB to 1TB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ach allocation group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 block information about the entir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ee space management (within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allocation and tracking (with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 clusters within an allocation group are created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kfs.xfs does not pre-create inodes throughout th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33E7-FACA-47E2-B2DC-231EFAE953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22160" y="963720"/>
            <a:ext cx="7697880" cy="49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2B45-3BAF-4202-90F2-36AF5E92B5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0960" y="0"/>
            <a:ext cx="4883040" cy="60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B675-7E05-461A-BC7F-EEE2F7D43F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Limi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2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1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4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9 Million TB = 9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18 Million TB = 18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6255-0535-4FB1-AF21-92E3AE3F71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ystem Block Size (FSB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ystem blocks (FSBs) are the unit of space for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blocks are comprised of one or more device-level sec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ge management implementation in Linux limits the FSB size to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4KB on ia32 and x86_64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6KB on ia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BD on powe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can improve with different block sizes depending on the size of I/O requests and the size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rger blocks will also use more disk space for small (&lt;1FSB)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EB7C-27CD-4D7C-A8BA-C4787FEC3A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xtent is a set of one or more contiguous FSBs that define a region in the filesystem for file data or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ingle extent can be up to 8GB in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e’s inode lists the extents associated with th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r very large files, the file’s inode may have thousands of extents, or one very large extent. Usually something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ents are also used for file and directory metadata when the information exceeds the space reserved for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7ECC-5E15-4E88-AABA-BC43DFF353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Unwritten 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2762-7392-41C2-AB4A-F79729B044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4:39Z</dcterms:modified>
  <cp:revision>337</cp:revision>
  <dc:subject/>
  <dc:title>Possible CXFS Administration and Monitoring Interfaces</dc:title>
</cp:coreProperties>
</file>