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6"/>
          </p:nvPr>
        </p:nvSpPr>
        <p:spPr>
          <a:xfrm>
            <a:off x="385272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8440" y="739800"/>
            <a:ext cx="494028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7"/>
          </p:nvPr>
        </p:nvSpPr>
        <p:spPr>
          <a:xfrm>
            <a:off x="0" y="93801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8"/>
          </p:nvPr>
        </p:nvSpPr>
        <p:spPr>
          <a:xfrm>
            <a:off x="3852720" y="93801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3D34D-F9BE-4720-AF24-19156D924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Deeply hooked into XFS. Block level, not byte. 64bit numb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for each i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Enforcement of quotas is optional. We can track usage to inform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but don't have to enforce that (qnoenforce mount option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Generic commands do not scale to the size of xfs filesystems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but they do work with XF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Other filesystems use a file to record and track quotas, XF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embeds this information into internal data structures in XF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linked in the super block. So quota operations in XFS are journal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* Nathan has a patch for quotas for realtime. The dquot is ab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to differentiate and you could set different quotas for meta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and realtime data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Project quotas was commented out of IRIX for a while, when t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Linux quotas was done the project quota was used to impl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group quotas. Hitachi then asked for group quotas on IRIX, s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Nathan's project quotas to do group quotas was back ported to IRIX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XFS architecture team decided to use project quotas to do directo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level quotas, which is an inode flag that is inheritable. N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of the user tools on linux understand projects, so we have xfs_quo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that understands user, group and project quotas, even on realtim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project quotas are specific to xfs. every xfs inode has a proje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id. inodes inherit project id. does not allow links between ino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with different project ids. could be used as a cheat to grow 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shrink a filesystem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qflags field in sb holds 3 bits for each type (user, group, projec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indicating if we 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- allocating (tracking) quot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- enforcing quot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- checked (on mount if this is not set but mount with quotas, go 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bulk stat and rebuild quotas then set this bit. bit is unset wh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filesystem is not mounted with quot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sb also holds two special inode numbers for the dquot fil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linux quotas in the vfs maintained by Jan Kara at SuS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quota file is large and gets fragemented since it needs to deal wi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huge range of ids support by linux. it could preallocate 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it could be a btre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5D6E1-0024-4B26-8D3E-56108A78F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DB56F-76F9-48E6-B9C4-ACB491DE3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6D93B-EDCF-4AC5-8006-871C0D30F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E92A0-33EA-4C08-BFD3-6FF794D75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1CA09-98A6-465E-9C93-3358BC33C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73183-5E14-4BCE-8B37-964AA17B9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1612E-93F5-478B-81B5-416B7C726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2C0F5-EAB4-4DAF-827D-FDE1A6D8D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9E7CD-7C5C-45FE-AE7D-066FCE6E9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D4943-CD8D-4774-988B-3E112F39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3419B-5550-4F37-8032-DA2A1ED3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9A668-E308-46FC-B2CC-85851F99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79C9051F-1D43-4221-9E6A-88D64DCEB0BE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cvs@oss.sgi.com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03 - Buil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03 - Bui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Building XF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is tutorial describes how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obtain the latest XFS source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ow to build and install the commands and kernel compon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following prerequisite RPMs should be inst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progs-d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api-d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se headers and installed can be built from source, but these RPMs will normally su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3 - Bui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61B2A-DBC9-4AA2-9D0B-856BD578611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40099"/>
                </a:solidFill>
                <a:latin typeface="Arial"/>
              </a:rPr>
              <a:t>XFS Source Cod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test XFS is available via CVS from oss.sgi.co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gt; export CVSROOT=':pserver:</a:t>
            </a:r>
            <a:r>
              <a:rPr b="0" lang="en-GB" sz="1600" spc="-1" strike="noStrike" u="sng">
                <a:solidFill>
                  <a:srgbClr val="0000ff"/>
                </a:solidFill>
                <a:uFillTx/>
                <a:latin typeface="Courier New"/>
                <a:hlinkClick r:id="rId1"/>
              </a:rPr>
              <a:t>cvs@oss.sgi.com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:/cvs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gt; cvs lo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Logging in to :pserver:cvs@oss.sgi.com:2401/cv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VS password: &lt;password is “cvs”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gt; cvs checkout linux-2.6-x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vs checkout: Updating linux-2.6-x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U linux-2.6-xfs/.gitign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U linux-2.6-xfs/COPY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U linux-2.6-xfs/CRED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gt; cvs checkout xfs-cm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3 - Bui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CF903-C65B-4386-93A4-D846F9AC211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Building xfs-cmd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ilding the XFS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gt; cd xfs-cm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gt; ma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PM packages will be placed in RPMS/&lt;arc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gt; cd RPMS/x86_6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gt; sudo rpm -i xfsprogs-2.8.15-1.x86_64.rp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gt; sudo rpm -i xfsdump-2.2.43-1.x86_64.rp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urce RPM packages will be placed in SRPM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3 - Bui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F7830-668F-47A4-9771-5E77961ED86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Kernel Configuration Op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37680" y="1052640"/>
            <a:ext cx="84740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CONFIG_XFS_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XFS can be built as a module or statically linked into the ker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CONFIG_XFS_QUO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pport for quota disk limi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CONFIG_XFS_DM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pport for the data management API (requires generic kernel DMAPI suppor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CONFIG_XFS_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pport for alternate access control models (ie SELinux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ONFIG_XFS_POSIX_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pport for Access Control Lis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ONFIG_XFS_REAL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pport for the realtime allocator that provides deterministic data rat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ONFIG_XFS_DEBU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clude debugging features in the build (ie ASSERTs, sanity checking code, etc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ONFIG_XFS_TRA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clude support for activity tracing of inodes, buffers, locks, the log, I/O path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3 - Bui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725E5-8862-41FD-8187-8B951CCB2F6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Build Kernel Component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figure and build kernel and mo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gt; cd linux-2.6-x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gt; make xconf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gt; make bzIm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gt; make mod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gt; sudo make modules_inst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XFS wasn't built as a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# cp arch/&lt;arch&gt;/boot/bzImage /boot/vmlinu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# cp System.map /boot/System.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# li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# rebo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3 - Bui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6D8C7-D1A9-4DE2-AFD1-8A3A00EBDAB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Load XFS Modul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 the XFS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modprobe x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modprobe xfs_dm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modprobe xfs_qu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# lsm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odule                  Size  Used b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xfs_dmapi              32852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xfs_quota              85120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xfs                   848864  2 xfs_dmapi,xfs_quo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 now mount XFS filesystems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3 - Bui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F921F-CE19-4D8E-8E61-BFCB0AD946A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3 - Build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CED59-8FF3-4B0F-80D1-8CF897A20D40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19:35:27Z</dcterms:modified>
  <cp:revision>334</cp:revision>
  <dc:subject/>
  <dc:title>Possible CXFS Administration and Monitoring Interfaces</dc:title>
</cp:coreProperties>
</file>