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1115-64B1-4F67-B8F7-AC0E3960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F0F8-4D12-48B9-8025-444B9973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3646-FBF7-4A9F-8AED-90FC0339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396A-05E9-48A7-9FED-D61E7415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8CB8-F632-4424-821B-F760C59E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C975-7264-484C-ACCB-8BD2B8C4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C793-2EC6-4E13-8C99-321FDF89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D93A-1BF9-4D9D-8DCD-1226CA3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36FE-8326-43DC-9BF7-B75A426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E32D-6276-4373-8029-CF786C73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5C2F-42BC-47CF-83FE-AD229B8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1685-4073-43BC-A6B8-5616CD8A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59B5C77E-7A8F-4D7D-99F0-15F8E19E4C35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Tri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3995-652A-444D-8AE1-BD10844EB5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72BA-F7C7-439D-BC3F-704360F83A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8632-A5CE-4302-BC4D-E13BEA82B5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BB83-7A42-42A5-AFF6-9E3D34FC566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57Z</dcterms:modified>
  <cp:revision>338</cp:revision>
  <dc:subject/>
  <dc:title>Possible CXFS Administration and Monitoring Interfaces</dc:title>
</cp:coreProperties>
</file>