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6"/>
          </p:nvPr>
        </p:nvSpPr>
        <p:spPr>
          <a:xfrm>
            <a:off x="3852360" y="-360"/>
            <a:ext cx="2930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28440" y="739440"/>
            <a:ext cx="492588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120" y="4690800"/>
            <a:ext cx="4970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3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8"/>
          </p:nvPr>
        </p:nvSpPr>
        <p:spPr>
          <a:xfrm>
            <a:off x="3852360" y="9380160"/>
            <a:ext cx="2930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6811E-62C6-4FB2-8DDD-2ABE227627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302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2880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302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Deeply hooked into XFS. Block level, not byte. 64bit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for each i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Enforcement of quotas is optional. We can track usage to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t don't have to enforce that (qnoenforce mount optio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Generic commands do not scale to the size of xfs filesystem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y do work with XF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ther filesystems use a file to record and track quotas,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embeds this information into internal data structures in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ked in the super block. So quota operations in XFS are jour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* Nathan has a patch for quotas for realtime. The dquot is 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o differentiate and you could set different quotas for meta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nd realtime da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ct quotas was commented out of IRIX for a while, whe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ux quotas was done the project quota was used to imp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group quotas. Hitachi then asked for group quotas on IRIX, 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Nathan's project quotas to do group quotas was back ported to IRI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XFS architecture team decided to use project quotas to do direc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evel quotas, which is an inode flag that is inheritable. N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user tools on linux understand projects, so we have xfs_quo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understands user, group and project quotas, even on realti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ct quotas are specific to xfs. every xfs inode has a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d. inodes inherit project id. does not allow links between in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different project ids. could be used as a cheat to grow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hrink a file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qflags field in sb holds 3 bits for each type (user, group, projec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ndicating if w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allocating (tracking)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enforcing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checked (on mount if this is not set but mount with quotas, go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lk stat and rebuild quotas then set this bit. bit is unset w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filesystem is not mounted with quo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b also holds two special inode numbers for the dquot fi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ux quotas in the vfs maintained by Jan Kara at S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quota file is large and gets fragemented since it needs to deal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huge range of ids support by linux. it could preallocat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t could be a btre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F3075-26DE-453C-9E94-2832C74F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69000-8239-41FB-A3F6-02016D8C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4F4C6-EFF3-4F16-91C6-EBBF686E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82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880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80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82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880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4DEB-E45E-488E-92E7-781829B7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326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2F9F-6762-4A4E-AE9B-543DC03C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82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880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80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82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5880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6985E-D15E-4B3E-861F-AC167F31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01D2-812C-4793-8323-CA6FD80E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6ADC-241C-46F8-BD95-7D3937E6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326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EAADF-09F0-4146-AFDE-9EA74BFB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258A1-2215-4360-9690-C7F35FE1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3909-4E92-4C28-BC77-567393D9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06B5F-6DA7-4FE3-825B-E553AD92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144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760" y="6237360"/>
            <a:ext cx="1176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8907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857D9C-0F08-4EE0-83A8-98A43AF2D3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126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6640" y="2695320"/>
            <a:ext cx="54975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6160" y="5694480"/>
            <a:ext cx="18907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126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5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8 - Quotas</a:t>
            </a:r>
            <a:endParaRPr b="1" lang="en-US" sz="32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600" spc="-1" strike="noStrike">
              <a:solidFill>
                <a:srgbClr val="363636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Limits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2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s xfs_quota -x -c 'limit bsoft=1000m bhard=1200m user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s xfs_quota -x -c 'limit isoft=500 ihard=700 user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Lim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x -c 'limit -g bsoft=1000m bhard=1200m group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controlled directories are first added to /etc/projects. Project names are optionally added to /etc/projid to provide an id/name mapp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c 'project -s projectname' is run to initialize project direct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x -c 'limit -p bsoft=1000m bhard=1200m project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7503-4EBB-4BFE-A761-45E8285B7A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320" y="352080"/>
            <a:ext cx="84373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nabling/Disabling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can be used to temporarily or permanently disable quotas on a filesystem using the following command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ble – Temporarily disable quota enforc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– Enable quota enforcement. Used to enable quotas if they have been disabled or the filesystem was mounted with qnoenfor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– Switch off quota management quotas can only be re-enabled by un-mounting and remounting the filesystem (Limit information is preserve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– remove quota extents from a filesystem. All quota limits are destro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B8035-D0FC-4AE6-9244-B5B25F4B3F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320" y="263520"/>
            <a:ext cx="844236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Advanced xfs commands (xfs_quota -x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9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also contains comma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ise the state of xfs quotas on a system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m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te the grace period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im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 and restore the quota information contained in a filesystem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um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s. These commands are also used internally by xfs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4DC4-25CB-404E-9DFC-DA00351173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Generic Quota Tool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xfs_quota xfs also works with generic quota tools provided on Lin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tools include quota, repquota, quotactl, edquota, quotacheck, setquota, and quotaon/quotaoff (enforcement only) and quotawa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neric tools to not understand XFS project quo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D0E8-422C-44FE-8ECB-4CADE8F97C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Providing user feedback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systems are configured to provide a level of feedback to users if they exceed their quota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ommon method for informing users is to send email using the quotawarn command from the generic quota package. Quotawarn is often as a cron job da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can be provided for interactive users by running “xfs_quota -c quota” in  users login scripts (/etc/bash.bashrc.local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D1B2-E497-44D1-82DA-BB643F0333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s are implemented as part of the filesystem metadata (instead of maintaining quota data in a file within filesyste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are updated in realtime as the filesystem is changed. No “quota checks” need to be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53B9-E992-41F3-8C52-8E16D0371C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 – Project Quotas.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quotas are implemented using the group quota inode. This excludes project and group quotas from being enabled at the same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configuration information is stored in /etc/projects and /etc/proj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-s projectname initializes the project id in inodes contained under directories specified in /etc/pro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14DD-B49B-416D-BBE2-875C1703FE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 – Examin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6468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db can be used to understand the internals of the quota implemen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inodes can be seen in the filesystem super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db -xr -c sb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quotino = 1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quotino = 1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db -xr -c 'inode 131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quota entries can be viewed with xfs_db's dquot comm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dquot username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dquot -p projectname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s can be interrogated to determine which project they belong t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 -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inode 675234191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projid =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ui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gi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47A7D-DE7D-4A4F-822F-2AA7697D2C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elme? Quotas – Dave's Initial Slide.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nd group 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D 42 currently has X blocks &amp; Y inod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space/inodes vs dynamc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count is file data, intimately tied to space allocator (NB: dquots are journall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(pseudo-directory) 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var/log currently has X blocks &amp; Y inodes, is limited to ..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files and dqu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(invisible) inodes in primary 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 simp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fs_disk_dquot_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ray, ID inde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2184-AFB5-4F74-A021-A891252BC5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provide a method for managing disk resour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can be used to report on disk u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can be used to control disk u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manage filesystem resources in two w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Managing Disk Space (blo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Managing the Number of Files (ino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resources can be managed on a per user, group or directory (project) ba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0297-B5C5-442D-B05C-36ABDBF74F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485640"/>
            <a:ext cx="84456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Typ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2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tracked or enforc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individuals or system us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directories associated with a specific project. Projects may cross organizational 'group'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broader levels of control than available using user or group quo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2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effectively shrink a file system allowing administrators to reallocate disk space as need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B5A2-2D9F-42CC-8D56-05AD1C954F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eporting Vs Enforce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monitor disk usage and optionally enforce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monitor disk usage across quota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efficient than using unix tools like du that must traverse the file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are maintained as the filesystem is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enforce limits on users, groups or pro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 us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s against rouge processes bringing down syste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two types of limits. Hard and sof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9176-0AB1-4CA8-B9DF-ED303F4236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buClr>
                <a:srgbClr val="440099"/>
              </a:buClr>
              <a:buFont typeface="Helvetic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nforcement (Limits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types of limits; Hard and So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are advis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additional disk resources to be consumed for a period of time. this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lexibility to users and processes that may occasionally need to exceed there quota tempora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 further allocation of disk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I/O that attempt to allocate further disk resources is fail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ing data on the disk is preserved and existing disk allocations can still be writ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s must remove existing files to before new resources can b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 limits are be enforced as hard limits after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are never applied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A547-7067-443A-980E-C991E29D96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figuring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s are enabled as filesystem mount options when the filesystem is moun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User, Group and Project quotas are enabled independently. Group and Project quotas are incompat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Each quota type can be specified as noenforce, in this case quota reporting will be maintained but not enfor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Valid mount option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uquota, uquotanoenforce - User qu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gquota, gquotanoenforce - Group qu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pquota, pquotanoenforce - Project 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e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mount -o quota,pquota /dev/hdb1 /media/xfs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Or in fs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/dev/hdb1 /media/xfstest xfs defaults,quota,pquota 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2B41-87E1-4D7B-92C4-9012AC481E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xfs_quo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quotas are configured the xfs_quota tool can be used to report on disk usage and set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operation is controlled by xfs_quo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has two modes of operation, basic and expert mode (xfs_quota -x). Basic mode includes commands for reporting disk usage to users. Expert mode contains advanced commands that allow the modification of the quota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DC61-EF8C-490C-A427-513BAC80EE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Report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quota -xc 'report -h' /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quota on /home (/dev/hdb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ID      Used   Soft   Hard Warn/Grac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----- ------------------------------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ot         4.6G         0      0  00 [------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user  103.4G      0      0  00 [------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report as an ordinary user simply reports that users disk usage while running as root allows the disk usage of all users to b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quota -xc 'report -h' /ho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m0.287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du -hs /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m3.086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C5358-E710-4E92-B6CD-3950028486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tz</cp:lastModifiedBy>
  <dcterms:modified xsi:type="dcterms:W3CDTF">2006-10-30T21:51:45Z</dcterms:modified>
  <cp:revision>1</cp:revision>
  <dc:subject/>
  <dc:title>Possible CXFS Administration and Monitoring Interfaces</dc:title>
</cp:coreProperties>
</file>