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2AE5-1A34-4484-B640-A71028C0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7AAF-9BB8-4C42-8AF3-A816782D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8D3D-F751-45FC-84AA-DA2CBB37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46BE-30F5-4EB5-A269-2590693D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3554-4E53-4665-BF14-76D168AD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14A4-21BC-4F47-BAC0-8A3ECB33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E083-345D-4BF1-B6B5-E9A3D3B4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DBDE-57C2-45B5-B4C7-B1FE4ED5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BCFE-86EF-4689-B0DE-12147ECE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A06A-3757-49D2-9EB4-1B37AAD1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FD89A-3F82-46F5-938F-11F5A8B5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2ADF-B726-40C4-BD20-E5B31184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9C61E76E-ACEF-4B3D-8BBC-66954490FE71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9 - Inter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fs_fill_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 a bhv_vfs struc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fs_alloc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initial behaviour module chain, for all bhv_module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insert_all_vfs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 mount option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parsear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end of this we have the final behaviour chain – e.g. if quota is not in use, its removed itself from the cha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bhv_remove_vfs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moun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m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ase XFS behaviour, we read the primary superblock, setup per-fs structures, does log recovery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quota behaviour, we do the quotacheck and dquot re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05A32-2A17-4ACF-9BAB-610D7D6E14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-T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440" y="1476360"/>
            <a:ext cx="9146880" cy="39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0EA5-994B-454D-8923-514E0CD611E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nd Directory Oper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EEB8-87E2-4A35-8A5D-2DDDE2F9D3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name Loo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9931-9E99-4CA2-A491-BF7AAF7F51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reating a new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F5F3-DFC2-4E33-9470-41C576D937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ng a new in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13B2-3656-47B8-9C41-9D037C964D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dding name to directo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2786-BB18-449B-8D01-DD8306238F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hanging file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7050-981C-49C6-A8D9-50C76DF459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riting to a new file / Appending to an existing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5CB8-44EE-40DE-A831-5410C96B07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ing from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4D1E-5EA6-49DD-864D-8CD79A710F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Archite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2F1F-F907-4CD9-ACE0-247594640E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ek and write to create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36F4-63FD-4B95-B61E-F6A3D30665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 and write to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4C6D-6E96-4761-A5D1-89E22AC6F3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uncate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5AA0-0BF6-4047-808F-798570FAD0E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pace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i / xfs_bmap_alloc  (the root of all evil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MAP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extent map f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ctual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unwritten extents to written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pace al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+Trees (“dat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b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itmaps (“realtim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r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: stripe unit/width size/align, di_ext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118D-A0A0-4835-A61F-03CB83D2FE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mory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been a source of problems on the Linux XFS port, it is much improved now, how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 was very good at ensuring memory allocations succeeded, XFS written on IRIX... you do the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rocess flag added into Linux XFS zone (slab) allocation routines that make the allocator aware of memory allocations from within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FB71-9C52-48B3-A488-FAD8E45FCE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Buffe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uf.c and xfs_buf.h implements the XFS metadata buffer cache on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pag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“pinn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“private” buffer poi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ing, iodone semaphore for I/O wai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backs for: iodone, relse, pre-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core log buffers also implemented via xfs_buf_t and this causes some oddities in there – sub-buffer-sized I/Os, non-page-cache buff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address_space from b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8F9E8-4E52-4F04-8B11-709DF416E51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I/O Comple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logd/N (per-CPU daem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s that handle I/O completion work for iclog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log_state_do_callbacks – runs multiple completions, depends on what was logged inside this iclog buff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lso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buf_do_callbacks – typically, removing from AIL and freeing up buffer_item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atad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cover later, in the I/O path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sort of idea th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21F0-BFDB-4CCD-8325-66F70A8E59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ayed write buff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bu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thread, one per filesystem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k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buftarg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“buffer target”) hash table finding delayed writ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s timestamped when que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tweak the age at which unpinned and dirty metadata buffers will be considered for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age_buffer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able daemon wakeup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xfsbufd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1F2C-2549-40CD-A179-5D1E914874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/O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and write family of sys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buffered and direct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lrw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locking (i_mutex/iolock/i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write reserves space only, allocation at writeou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block_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ode, iblock, buffer_head, “create” fl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buffer_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_state, b_blocknr, b_size,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4BC4-27C8-4F7C-93F7-C44CEBCDAB8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sync(2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implements an optimisation to sync(2) of meta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will only force the log out, such that any dirty metadata that is incore is written to the lo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 metadata itself i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cessarily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safe, since all change is o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data is guaranteed too (even barri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ze/thaw, remount,ro and unmount do guarantee both log an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been bitten in the past, but fixed nowa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9338-61BF-4122-A5FF-3B0B1623B0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vnodeo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FS system call interfaces are mapped to xfs functions in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vnode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vnodeops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_vnodeop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pen, close, fid, read, write, sendfile, splice, f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ile descri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getattr, set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attributes -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ttr_get, attr_set, attr_list, attr_re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ccess, look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permissions/ex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, remove, symlink, read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ular files, specia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ddir, mkdir, rmdir, rmdir, link, re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claim, release, inactive, iflush, bmap, flush_pages, flush_inval_pages, toss_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/ page cache state and/o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C57B-B49C-4BFC-9868-D3A4F34210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ata write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by the VM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vm_writepag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page_state_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cache pages attached to inodes via a radix-tree (2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-&gt;i_mapping and page-&gt;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oes its own writeout, sort of (due to delayed allocation and unwritten ext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through 2.6 writepa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use buffer_heads for per-fsbno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ioend_t - goes direct-to-bio for actual write, with &gt;1 page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1CC6-CC55-40AA-8C7E-BDF40BE472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nsa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= xfs_trans_alloc(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reserve(tp, data, log, rt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make changes, allocate space, free spa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superblock/inode(s)/buffers/... to transaction, logging ranges within these objects, typically, e.g.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trans_log_inode(tp, ip, XFS_ILOG_CO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commit(t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22A8-2C4F-41EC-9F92-F5C9B87F86E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135920" cy="53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54D0-2E27-4FB1-A05A-6A1BA7549564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D95C4-4251-4693-B62D-80EE9991B02B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vnode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1597-3C61-4405-A204-98F88FDB47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specific system calls (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ctl()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) are dispatched by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ioct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fs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linux-2.6/xfs_ioctl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, fscounts, [get|set]resblks, shutdown, freeze/th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level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[fs|fslog|fsr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size (and maximum inode count)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et|set]xflags, fs[get|set]xattr, fs[get|set]xattra, dio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attribut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I/O parameters (min/max/al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sp, freesp, resvsp, unresv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llocation and/or pre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lk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(sequential) inode's attributes –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dump, quotacheck,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-handle (open, fd-to-, path-to-, readlink, attrlist, attrmulti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inodes by “handles” (inum/igen/f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bmap, getbmapa, swap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data/attr fork exten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B40F-6B8F-4606-8911-8D65F04975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xfsct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086D-AFE8-481E-B210-0F641AF7BF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y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usr/src/linux/Documentation/fs/xf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ymlink_m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links get mode 0777 by defa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gid_inher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gid bit always inherited regardless of process g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mlin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t inherit symbol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_cho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wn restricted to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torst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files in AG before rotating to nex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quo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io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dm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el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_buffer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of buffered data before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sync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sync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buf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buf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a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 accesstime trackin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du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dump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n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sync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_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error handling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ic_m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panic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9E6A-4578-45F9-B6AE-75388D48AD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ntry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unused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claim &gt;secs when short o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Calling shrink_dcache_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max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imum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file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s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ctive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ree inod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# &gt; inode-max so prune in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me as inode-state first two v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10C0-7E84-420C-9AF1-1D44190726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ehaviou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27080" y="1905120"/>
            <a:ext cx="7096320" cy="34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7869-1B40-4E8B-924C-1D338DB164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2:32Z</dcterms:modified>
  <cp:revision>338</cp:revision>
  <dc:subject/>
  <dc:title>Possible CXFS Administration and Monitoring Interfaces</dc:title>
</cp:coreProperties>
</file>