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6C30A-610E-411A-8AC2-17F13F11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37286-AFF9-4C1A-A605-58FBB3A8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40FF1-A889-4702-A3EA-23548935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F0335-DD35-443E-B68F-B77E9573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382B3-7A70-4852-821E-C3B5E4C5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ABB9C-1871-499A-809A-DACDCF2C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11D0-D9C5-4BFC-A9BF-E899C896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5E330-B237-42F8-81B6-879B3A1C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F78A0-7442-4402-A53B-028803C2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1ACE2-AC03-4C20-836B-C3B6A10C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1A9A-BDC3-4E4A-8E4C-0741FCCE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41897-3683-45D2-8746-CC266CE8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A24D3E29-D282-4F74-A6A7-488494D95503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4 - mk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Filesystem Imag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kfs allows you to create a filesystem as a regular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can be used to create a filesystem on a loop-back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d file=1,name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=filename,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size=2g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A0425-77C0-4F18-B1FD-C952FDC572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Prototype Filesystem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798D9-ABA2-40A1-9C87-B2280DB0A4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B7AD1-FC47-4F89-933E-667433673F2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Creating XFS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kfs.xfs supports a large number of options for configuration a large number of different XFS file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ee mkfs.xfs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00s = 100 sectors = 100 x 512 byte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00b = 100 blocks = 100 x 4 kilobyte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00k = 100 * 1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Assuming 512 bytes sectors and 4 KB filesystem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N option can be used to show filesystem parameters without creating a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so provides the capability to pre-initialise the filesystem with directories and  inodes, which is useful fo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28A88-3BA0-473F-9875-4037FBAE30F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Stripe Align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igning file data on stripe width boundaries can significantly improve performance on large R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2MB write to filesystem with a 2MB stripe width and 512KB stripe unit will result in four I/Os, one to each lun. Without alignment this would often require two I/Os to one disk, and one I/O to the other three, taking longer than it shou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 create a filesystem with a stripe unit of 1MB for an 8+1 RAID you would 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d sunit=2048,swidth=16384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d su=1m,sw=8m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10936-9386-4A07-814D-90A130B7BB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Inode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mkfs inode options allow the user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size of the inode from the default 256 bytes to up 2048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maximum number of inodes in the filesystem, defaults to 2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xtended attribute allocation 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se options may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here the inode is allocated in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uch data needs to be read from disk to read the i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uch data may be associated with the inode before data goes out of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 allocate 512 bytes to each in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i size=512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F39B8-DFB8-4702-A18C-5E647235C8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Directory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195EE-A827-4CDF-BD31-6DE9C0A9E3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Sector Siz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6CA43-5ABF-41CA-B0BE-FD57AD1B2F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External Lo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journal log can be on a different device to the rest of the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t least 512 bloc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 more than 64K blocks or 128MB, whichever is sm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efaults to maximum size for &gt;1TB file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g device could be a device with better IOPS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15K RPM disk or battery-backed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.xfs –l logdev=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log_devic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ount –o logdev=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log_device device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4869000"/>
            <a:ext cx="576000" cy="100800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4869000"/>
            <a:ext cx="1224000" cy="100800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27280" y="43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Journal Log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File Data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72D29-B5ED-4525-B2DA-1F52F90D0F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Log Align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B2DEE-7FCD-4C82-9D3A-6E618B08DB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- Realtim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404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riginally designed for media streaming requiring predictable lat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altime volume tuned for large files without small inode clus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etadata and file data on separate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itmap allocator only has to manage file data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mkfs.xfs –l log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log_device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–r rt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rt_devic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mount –o log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log_device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,rt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rt_device device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rt_devic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is the device for the file data,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device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s for the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ceives limited testing and support in 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869000"/>
            <a:ext cx="576360" cy="100800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0" y="4869000"/>
            <a:ext cx="647640" cy="1008000"/>
          </a:xfrm>
          <a:prstGeom prst="can">
            <a:avLst>
              <a:gd name="adj" fmla="val 25000"/>
            </a:avLst>
          </a:prstGeom>
          <a:solidFill>
            <a:srgbClr val="99cc66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43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Journal Log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43657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4869000"/>
            <a:ext cx="1224000" cy="100800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File Data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1D4BB-6788-45A3-AFD7-BDDF71FEBDA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6:17Z</dcterms:modified>
  <cp:revision>338</cp:revision>
  <dc:subject/>
  <dc:title>Possible CXFS Administration and Monitoring Interfaces</dc:title>
</cp:coreProperties>
</file>