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75583"/>
        <c:axId val="70004288"/>
      </c:barChart>
      <c:catAx>
        <c:axId val="236755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04288"/>
        <c:crosses val="autoZero"/>
        <c:auto val="1"/>
        <c:lblAlgn val="ctr"/>
        <c:lblOffset val="100"/>
        <c:noMultiLvlLbl val="0"/>
      </c:catAx>
      <c:valAx>
        <c:axId val="700042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755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C057-798F-4AC7-B803-C540D9F2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3B50-65EC-4A30-AE63-5091ADD3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EE8-C5EB-47B8-9177-BDA3E670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ACB7-B97D-4CCA-BEDA-F1DFDA1E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70AB-98D4-48B9-9B3E-EE4ACB72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04C6-6375-48FC-B320-49820FAC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8CF5-3102-4F2F-8E3E-BBB7437F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9155-041E-424A-B6B3-24507DD6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E671-6228-4270-9947-B4375A49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952-9B41-49FA-B56F-8074B001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7920-1C97-4705-BF5F-68153C48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E86B-A058-4B15-9DE0-C3F26834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4A6A2-952B-42DB-8D5B-6C871C6F05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