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95876"/>
        <c:axId val="50658284"/>
      </c:barChart>
      <c:catAx>
        <c:axId val="31795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8284"/>
        <c:crosses val="autoZero"/>
        <c:auto val="1"/>
        <c:lblAlgn val="ctr"/>
        <c:lblOffset val="100"/>
        <c:noMultiLvlLbl val="0"/>
      </c:catAx>
      <c:valAx>
        <c:axId val="50658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95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B6C-7120-4C48-A2C4-88E526B3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1C3-89BA-45CE-BE60-748CC66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554-7102-4B89-8AC1-25B01AB7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931-C1B3-4CC7-8624-65C2708A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1CA-D0ED-4546-B62E-91C586A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A1D-B060-44BE-BE67-7579A459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65C-5749-4E61-BEA8-60D530A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E33-7AB9-47C3-BB74-C5D9DABB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880-7760-48E6-BF99-7F70C138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2EF-F638-4E12-AE8E-21D7DC4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5DF-AF5B-4598-9B79-C4B887C7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7A7-D314-4FE9-AEC5-414C0E3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B7053-0565-443F-BE4C-2F1C0D9FB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