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07638"/>
        <c:axId val="16465621"/>
      </c:barChart>
      <c:catAx>
        <c:axId val="69507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5621"/>
        <c:crosses val="autoZero"/>
        <c:auto val="1"/>
        <c:lblAlgn val="ctr"/>
        <c:lblOffset val="100"/>
        <c:noMultiLvlLbl val="0"/>
      </c:catAx>
      <c:valAx>
        <c:axId val="16465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07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A25-A587-44F7-849C-1A33E8D2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3DC-C2C1-462F-A843-9EDECEED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723-E70F-4760-8038-72431F3F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4EC-A8F3-4D07-8DE1-E2CCEE06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06A-9F43-4AEE-A4B9-6EC5F94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07D-2B1D-4FA2-9D8A-C6E27F2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91F-3B79-4C87-9FE3-F882DEEF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DA2-F6FA-4247-A3FF-62A2DB4E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FA5-0167-4C38-948A-21C56B02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3D4-2398-4576-BC67-18968CE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BED-AB4F-4875-B1F3-10B269E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BB8-CF3B-44ED-8B6D-C699407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69EAE-9E5E-4FCD-96B1-B3A0C06F4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