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773473"/>
        <c:axId val="16860325"/>
      </c:barChart>
      <c:catAx>
        <c:axId val="737734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860325"/>
        <c:crosses val="autoZero"/>
        <c:auto val="1"/>
        <c:lblAlgn val="ctr"/>
        <c:lblOffset val="100"/>
        <c:noMultiLvlLbl val="0"/>
      </c:catAx>
      <c:valAx>
        <c:axId val="168603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7734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776A-919C-4032-95B6-2EFBA25B9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857E-E2F0-4540-85FC-697077236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6D5E-6077-4988-974C-7E2E02485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40C0-5887-4729-94F6-FEF2E45B4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EAE1-8C6E-4186-8A88-7A6068CDF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8BAE-3449-47D5-8E29-50A4A254C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9318-C8A8-4C49-A262-C258FB153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0ECB-B3DF-408B-8AE4-96683365B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53E1-4B9E-4745-9F2A-4501FD66A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174B-1E93-4CCD-810E-6A158A178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43A0-C443-41B4-861E-6D5A36428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275B-0EBE-4D80-BAB5-7DBBF5E2C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612F56-2988-4503-9119-B3F358E062D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