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873671"/>
        <c:axId val="99556159"/>
      </c:barChart>
      <c:catAx>
        <c:axId val="40873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56159"/>
        <c:crosses val="autoZero"/>
        <c:auto val="1"/>
        <c:lblAlgn val="ctr"/>
        <c:lblOffset val="100"/>
        <c:noMultiLvlLbl val="0"/>
      </c:catAx>
      <c:valAx>
        <c:axId val="99556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73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214-E2AB-409B-8469-F7BBB1D2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7DE5-CD7E-4639-9F64-5E4C82FB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5ED-E957-483F-A5B2-A1A00DA77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016-5C0D-41C8-9E6F-BC582CCA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A02-3013-4314-AE2F-6F79C6BB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97E7-05DD-49B1-9067-CF74BA7F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71B-1D8A-4F1A-BDDE-F3E887A5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437-EDC3-4F68-898A-DDDA7F12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3B26-C065-4550-AE42-5E46C0D6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659-324A-4C30-B4EC-ECB9268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426-D393-4091-9AFE-59D6C4F2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C88-3FEB-4154-AB00-9A0FDB1F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9B35F-9B39-43BE-A874-97D9BE6DB3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