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22270"/>
        <c:axId val="48331316"/>
      </c:barChart>
      <c:catAx>
        <c:axId val="36622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31316"/>
        <c:crosses val="autoZero"/>
        <c:auto val="1"/>
        <c:lblAlgn val="ctr"/>
        <c:lblOffset val="100"/>
        <c:noMultiLvlLbl val="0"/>
      </c:catAx>
      <c:valAx>
        <c:axId val="48331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22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5AD-DADC-416F-9A4B-6A185CAB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FD5-B1F2-44E4-B8BD-A1C3DAF3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AB2-1017-45E5-B058-CFB0914B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D45-0902-4191-8305-D72175BA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7A5-38B9-4D1F-8F08-BD396713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81E-D777-4549-8743-E5157A3F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3CC-8C89-4E06-9EBF-4FC52915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9D3-24FC-4843-A618-7600DDC9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56A-3938-4221-89D3-507A817F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235-D686-41EC-BA3D-42D8B77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530-2E31-43E0-8322-67E0B2CA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47B-E9E0-4FCA-B301-77DAE314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8C81F-3A32-44B4-847D-EEA37DD58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