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61040"/>
        <c:axId val="94805430"/>
      </c:barChart>
      <c:catAx>
        <c:axId val="48361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05430"/>
        <c:crosses val="autoZero"/>
        <c:auto val="1"/>
        <c:lblAlgn val="ctr"/>
        <c:lblOffset val="100"/>
        <c:noMultiLvlLbl val="0"/>
      </c:catAx>
      <c:valAx>
        <c:axId val="94805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61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CFC-CF4C-4116-BAEB-5F1D48F4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346-7C6F-46B5-A11B-A713304C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D23-1497-489A-B440-507416E0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7C9-898B-4260-A4FD-7DF66E08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4BF-1013-4D72-98F2-5D2E39CB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353-F33D-4756-ABA2-70DF8BF0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A23-3490-4B42-B924-4EC2599E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D12-2988-4B84-A404-ADA5B6E8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5F5-97AD-404C-908B-DD7FA947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4BC-4036-4C95-9D2C-A767C663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35D-7092-4343-A1B8-DDDB20A5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85D-3D90-4C99-A3F3-BDD1D9A8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05B70-7A00-4E67-9386-9CA1366DBA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