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28401"/>
        <c:axId val="17480254"/>
      </c:barChart>
      <c:catAx>
        <c:axId val="15228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0254"/>
        <c:crosses val="autoZero"/>
        <c:auto val="1"/>
        <c:lblAlgn val="ctr"/>
        <c:lblOffset val="100"/>
        <c:noMultiLvlLbl val="0"/>
      </c:catAx>
      <c:valAx>
        <c:axId val="17480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28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A76-AC7C-4C46-9F94-169E9755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0B4-153F-47C2-A7EA-C62E517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7E0-5206-4855-A6D8-158B0F4C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2CD-A000-4D97-92A5-07E0BD2A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13B-0D05-4784-9AC4-D1068679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AF7-7989-413B-96FA-2F58542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67D-BDE7-42B1-95A0-822D837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CD9-E799-4D03-BA8F-7BC14EA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255-DEBF-4F14-91F9-D92E4E0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8C3-EB99-4497-A9A6-C621228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513-5125-44FF-B99A-77E348E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5AA-F1CC-4E0D-B1F0-690E8142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95EA-85C3-49F4-8515-46F60E1EF3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