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04713"/>
        <c:axId val="69220499"/>
      </c:barChart>
      <c:catAx>
        <c:axId val="13404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20499"/>
        <c:crosses val="autoZero"/>
        <c:auto val="1"/>
        <c:lblAlgn val="ctr"/>
        <c:lblOffset val="100"/>
        <c:noMultiLvlLbl val="0"/>
      </c:catAx>
      <c:valAx>
        <c:axId val="69220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04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D2D-E24A-4147-817E-69CAC6AC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8D1-21D2-4AE6-8AC3-9871B2A3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2BB-BD17-4354-90BA-C6BD1D51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341-8B6F-40A7-899B-A84C22DA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448-6638-4D79-A94F-76346908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77E-A453-4755-A29B-CADE09DB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AFE-371A-49C7-A554-445090F6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9DC-1FCD-4DE0-BAE8-434A8876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D36-DD26-4DD2-A46C-4051B616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2C5-7F17-47D9-833F-7DA084D8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F6F-6139-405A-8EFB-60C79D3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492-2C52-485A-9811-F042BA5C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5E927-9352-4279-8AC6-B5FD0B7AB8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