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39033"/>
        <c:axId val="76801191"/>
      </c:barChart>
      <c:catAx>
        <c:axId val="22239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01191"/>
        <c:crosses val="autoZero"/>
        <c:auto val="1"/>
        <c:lblAlgn val="ctr"/>
        <c:lblOffset val="100"/>
        <c:noMultiLvlLbl val="0"/>
      </c:catAx>
      <c:valAx>
        <c:axId val="76801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9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15D-BC9B-4FF5-8F07-93FC9A5A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4DF-5093-4A90-A3DA-C755A8E4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CD0-6BD4-447F-ACC1-6973978C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645-5783-4B3A-BDC7-15F13A59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D39-D08E-47DA-B162-A5EB276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927-E50C-4F37-9EBF-1B747E58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0B6-2191-4F54-9FEE-0559F0C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66A-20EF-44A2-A70A-EB3CEFC8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9AB-00FC-4441-AFA3-5964556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ABA-3A60-4563-BBC5-C4409B5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8E4-5ABA-4825-B0B6-3E3B6C3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28C-CBC5-40B0-A4A8-DE1360F6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473B3-7026-4374-A252-86404E7E87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